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E6B-1033-4E3A-9864-49EC2EF3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E6D-E886-473F-92FE-A9576DC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9A3-ED03-473F-89B9-65623FA4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B84-CF77-40ED-9646-02F24BEC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86E-C82F-4674-AE24-C4FEBF09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48F-491C-43AA-9019-35950C6A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B71-FEB5-4E46-B057-7AD5B33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64A-2DBB-4A56-9D6F-05FBD6B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975-5B7A-4B55-A509-2713BF7A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86F-92FC-4513-9FCD-27332C7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50D-D23B-47D1-9234-C80AB43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B7E-B075-4002-8544-BC840F2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45C7-5177-4471-9C50-54DCD04F6D0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7:51:53Z</dcterms:created>
  <dc:creator>Grupo Editorial</dc:creator>
  <dc:description/>
  <dc:language>en-US</dc:language>
  <cp:lastModifiedBy>TORRES</cp:lastModifiedBy>
  <dcterms:modified xsi:type="dcterms:W3CDTF">2010-12-18T22:28:29Z</dcterms:modified>
  <cp:revision>1</cp:revision>
  <dc:subject/>
  <dc:title>Sin título de diapositiva</dc:title>
</cp:coreProperties>
</file>